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NA1 v3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2.xml"/><Relationship Id="rId31" Type="http://schemas.openxmlformats.org/officeDocument/2006/relationships/slide" Target="slide27.xml"/><Relationship Id="rId32" Type="http://schemas.openxmlformats.org/officeDocument/2006/relationships/slide" Target="slide27.xml"/><Relationship Id="rId33" Type="http://schemas.openxmlformats.org/officeDocument/2006/relationships/slide" Target="slide23.xml"/><Relationship Id="rId34" Type="http://schemas.openxmlformats.org/officeDocument/2006/relationships/slide" Target="slide24.xml"/><Relationship Id="rId35" Type="http://schemas.openxmlformats.org/officeDocument/2006/relationships/slide" Target="slide25.xml"/><Relationship Id="rId36" Type="http://schemas.openxmlformats.org/officeDocument/2006/relationships/slide" Target="slide26.xml"/><Relationship Id="rId37" Type="http://schemas.openxmlformats.org/officeDocument/2006/relationships/slide" Target="slide27.xml"/><Relationship Id="rId38" Type="http://schemas.openxmlformats.org/officeDocument/2006/relationships/slide" Target="slide27.xml"/><Relationship Id="rId39" Type="http://schemas.openxmlformats.org/officeDocument/2006/relationships/slide" Target="slide28.xml"/><Relationship Id="rId40" Type="http://schemas.openxmlformats.org/officeDocument/2006/relationships/slide" Target="slide29.xml"/><Relationship Id="rId41" Type="http://schemas.openxmlformats.org/officeDocument/2006/relationships/slide" Target="slide30.xml"/><Relationship Id="rId42" Type="http://schemas.openxmlformats.org/officeDocument/2006/relationships/slide" Target="slide31.xml"/><Relationship Id="rId43" Type="http://schemas.openxmlformats.org/officeDocument/2006/relationships/slide" Target="slide27.xml"/><Relationship Id="rId44" Type="http://schemas.openxmlformats.org/officeDocument/2006/relationships/slide" Target="slide32.xml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2.xml"/><Relationship Id="rId6" Type="http://schemas.openxmlformats.org/officeDocument/2006/relationships/slide" Target="slide22.xml"/><Relationship Id="rId7" Type="http://schemas.openxmlformats.org/officeDocument/2006/relationships/slide" Target="slide2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4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5.xml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6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7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8.xml"/><Relationship Id="rId6" Type="http://schemas.openxmlformats.org/officeDocument/2006/relationships/slide" Target="slide28.xml"/><Relationship Id="rId7" Type="http://schemas.openxmlformats.org/officeDocument/2006/relationships/slide" Target="slide28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slide" Target="slide29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30.xml"/><Relationship Id="rId5" Type="http://schemas.openxmlformats.org/officeDocument/2006/relationships/slide" Target="slide30.xml"/><Relationship Id="rId6" Type="http://schemas.openxmlformats.org/officeDocument/2006/relationships/slide" Target="slide30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1.xml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752480" y="1600200"/>
            <a:ext cx="5791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3333cc"/>
                </a:solidFill>
                <a:latin typeface="Times New Roman"/>
              </a:rPr>
              <a:t>v3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at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Times New Roman"/>
              </a:rPr>
              <a:t>JEOPARDY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064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6248520"/>
            <a:ext cx="68580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267080"/>
            <a:ext cx="26668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0120" y="5791320"/>
            <a:ext cx="152388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429000" y="4419720"/>
            <a:ext cx="2057400" cy="1523880"/>
            <a:chOff x="3429000" y="4419720"/>
            <a:chExt cx="2057400" cy="1523880"/>
          </a:xfrm>
        </p:grpSpPr>
        <p:sp>
          <p:nvSpPr>
            <p:cNvPr id="47" name="Pyr1"/>
            <p:cNvSpPr/>
            <p:nvPr/>
          </p:nvSpPr>
          <p:spPr>
            <a:xfrm>
              <a:off x="4229640" y="4419720"/>
              <a:ext cx="461160" cy="33768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Pyr2"/>
            <p:cNvSpPr/>
            <p:nvPr/>
          </p:nvSpPr>
          <p:spPr>
            <a:xfrm>
              <a:off x="3962520" y="4757400"/>
              <a:ext cx="992880" cy="396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Pyr3"/>
            <p:cNvSpPr/>
            <p:nvPr/>
          </p:nvSpPr>
          <p:spPr>
            <a:xfrm>
              <a:off x="3698280" y="5153760"/>
              <a:ext cx="1521000" cy="395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Pyr4"/>
            <p:cNvSpPr/>
            <p:nvPr/>
          </p:nvSpPr>
          <p:spPr>
            <a:xfrm>
              <a:off x="3429000" y="5547600"/>
              <a:ext cx="2057400" cy="396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ubPieSlice"/>
          <p:cNvSpPr/>
          <p:nvPr/>
        </p:nvSpPr>
        <p:spPr>
          <a:xfrm>
            <a:off x="3962520" y="1447920"/>
            <a:ext cx="1295280" cy="12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567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570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>
            <a:hlinkClick r:id="rId6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the ordered pair (3,0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7" action="ppaction://hlinksldjump"/>
          </p:cNvPr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x + 3y = 6 ∩ 2x =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ic Algebra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621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624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626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fference of twice a number and the number is six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ic Algebra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67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67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67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the distributive proper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(-4x + 7 ) = -12x + 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ic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727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730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732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volume of a rectangular pris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rId6" action="ppaction://hlinksldjump"/>
          </p:cNvPr>
          <p:cNvSpPr/>
          <p:nvPr/>
        </p:nvSpPr>
        <p:spPr>
          <a:xfrm>
            <a:off x="914400" y="2590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x Width x H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ometr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780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783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785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a diame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ine segment passing through bthe centrr of a circle from one side to the 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ometr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833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836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838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length of 3 c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he perimeter of a rectangle is 10 cm and the width is 2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ometr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886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889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891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 equals 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b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quals 25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omet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939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942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944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 cube with side measure of 4 c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me of a cube is 64 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Geometr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992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995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997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 y = 2x - 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y-intercept equals negative 3 and the slope equals 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c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045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048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050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9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llel li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y = 3x – 2 and y = 3x have the same slo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ctio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65527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NA1 v3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1523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657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4724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7913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6095880" y="5786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523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2590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657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4724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57913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15200" y="0"/>
            <a:ext cx="18288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95280"/>
            <a:ext cx="9144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15192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5858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292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8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471960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5786280"/>
            <a:ext cx="152424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31" action="ppaction://hlinksldjump"/>
          </p:cNvPr>
          <p:cNvSpPr/>
          <p:nvPr/>
        </p:nvSpPr>
        <p:spPr>
          <a:xfrm>
            <a:off x="6095880" y="5784840"/>
            <a:ext cx="152424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Sen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0"/>
            <a:ext cx="152424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Bas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lgebr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Func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5880" y="0"/>
            <a:ext cx="152424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Prob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0"/>
            <a:ext cx="152388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Arithmeti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1523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0120" y="2590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0120" y="3657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724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57913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7" action="ppaction://hlinksldjump"/>
          </p:cNvPr>
          <p:cNvSpPr/>
          <p:nvPr/>
        </p:nvSpPr>
        <p:spPr>
          <a:xfrm>
            <a:off x="7620120" y="5786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1523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2590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3657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7242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57913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0120" y="15192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585880"/>
            <a:ext cx="152388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365292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471960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43" action="ppaction://hlinksldjump"/>
          </p:cNvPr>
          <p:cNvSpPr/>
          <p:nvPr/>
        </p:nvSpPr>
        <p:spPr>
          <a:xfrm>
            <a:off x="7620120" y="5784840"/>
            <a:ext cx="1523880" cy="1066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44" action="ppaction://hlinksldjump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1246320"/>
            <a:ext cx="6096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► ► ►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 i n a l  J e o p a r d y 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  <a:ea typeface="Arial"/>
              </a:rPr>
              <a:t>◄ ◄ 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098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0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101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103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2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horizontal lin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nction y = k, whereby k is a 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ctio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151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154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156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slop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fference of the y-coordinates divided by the difference of the x-coordina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ctio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20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20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20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 y = x - 1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unction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4191120" y="2438280"/>
          <a:ext cx="1371600" cy="25876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258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261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263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the medi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: 6, 8, 7, &amp; 9 yields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311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314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5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316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is the probability of 1/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ing the letter c from the word: circ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abilit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36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36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36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the ran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ata 8, 11, 20, 16, &amp; 15 yields the value 1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abilit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417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420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422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3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arranging 3 fra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>
            <a:hlinkClick r:id="rId6" action="ppaction://hlinksldjump"/>
          </p:cNvPr>
          <p:cNvSpPr/>
          <p:nvPr/>
        </p:nvSpPr>
        <p:spPr>
          <a:xfrm>
            <a:off x="838080" y="2590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are 6 difference ways to arrange these frames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ability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470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473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4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475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4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finding the probability of a red marb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lue marbles, 2 green marbles and 5 red marbles in a bag yields 1: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robabilit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523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526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7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528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7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9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ithmetic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576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579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0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581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2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.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½ - .2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ithmetic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42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{…-4, -3, -2, -1, 0,1, 2, 3, 4…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3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umber Sens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4" action="ppaction://hlinksldjump"/>
          </p:cNvPr>
          <p:cNvSpPr/>
          <p:nvPr/>
        </p:nvSpPr>
        <p:spPr>
          <a:xfrm>
            <a:off x="762120" y="51055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are integ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387" y="1177"/>
                </a:lnTo>
                <a:lnTo>
                  <a:pt x="1177" y="1177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387" y="20423"/>
                </a:lnTo>
                <a:lnTo>
                  <a:pt x="30387" y="1177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177" y="20423"/>
                </a:lnTo>
                <a:lnTo>
                  <a:pt x="30387" y="20423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177" y="1177"/>
                </a:lnTo>
                <a:lnTo>
                  <a:pt x="1177" y="20423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149" name="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>
            <a:hlinkClick r:id="rId6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7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8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7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628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631" name="">
              <a:hlinkClick r:id="rId1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2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633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2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4" name="">
            <a:hlinkClick r:id="rId4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3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rId5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0% of 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>
            <a:hlinkClick r:id="rId6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ithmetic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>
            <a:hlinkClick r:id="rId7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681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684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5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686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5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7" name="">
            <a:hlinkClick r:id="rId5" action="ppaction://hlinksldjump"/>
          </p:cNvPr>
          <p:cNvSpPr/>
          <p:nvPr/>
        </p:nvSpPr>
        <p:spPr>
          <a:xfrm>
            <a:off x="762120" y="5257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8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>
            <a:hlinkClick r:id="rId6" action="ppaction://hlinksldjump"/>
          </p:cNvPr>
          <p:cNvSpPr/>
          <p:nvPr/>
        </p:nvSpPr>
        <p:spPr>
          <a:xfrm>
            <a:off x="838080" y="2590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0% of what number is 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ithmetic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73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73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73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0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323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3 x 1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100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>
            <a:hlinkClick r:id="rId7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Arithmetic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788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2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x – 5 = 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solution is x &lt; -5 &amp; x &gt;.5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6320" y="380880"/>
            <a:ext cx="8991360" cy="1600200"/>
          </a:xfrm>
          <a:custGeom>
            <a:avLst/>
            <a:gdLst>
              <a:gd name="textAreaLeft" fmla="*/ 2247840 w 8991360"/>
              <a:gd name="textAreaRight" fmla="*/ 6743520 w 8991360"/>
              <a:gd name="textAreaTop" fmla="*/ 19980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838080" y="91440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Final Jeopar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1795" name=""/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6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1797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6" name="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8" name="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193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a positiv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negative multiplied by a nega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4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5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umber Sens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6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7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8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387" y="1177"/>
                </a:lnTo>
                <a:lnTo>
                  <a:pt x="1177" y="1177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387" y="20423"/>
                </a:lnTo>
                <a:lnTo>
                  <a:pt x="30387" y="1177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177" y="20423"/>
                </a:lnTo>
                <a:lnTo>
                  <a:pt x="30387" y="20423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177" y="1177"/>
                </a:lnTo>
                <a:lnTo>
                  <a:pt x="1177" y="20423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204" name="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248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251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253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an irrational nu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umber 1.22345678.., 25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 ½ </a:t>
            </a:r>
            <a:r>
              <a:rPr b="0" lang="el-G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7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umber Sens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495600" y="1168560"/>
                <a:ext cx="215100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30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30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30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>
            <a:hlinkClick r:id="rId5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8280" indent="-3682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6" action="ppaction://hlinksldjump"/>
          </p:cNvPr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1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7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umber Sens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359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362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364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6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are fac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7" action="ppaction://hlinksldjump"/>
          </p:cNvPr>
          <p:cNvSpPr/>
          <p:nvPr/>
        </p:nvSpPr>
        <p:spPr>
          <a:xfrm>
            <a:off x="838080" y="25909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number 20 has 6 of these; 1,2,4,5,10, &amp; 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Number Sens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414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417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419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rId6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3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7" action="ppaction://hlinksldjump"/>
          </p:cNvPr>
          <p:cNvSpPr/>
          <p:nvPr/>
        </p:nvSpPr>
        <p:spPr>
          <a:xfrm>
            <a:off x="914400" y="2590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6x + 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ic Algebra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rId10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custGeom>
            <a:avLst/>
            <a:gdLst>
              <a:gd name="textAreaLeft" fmla="*/ 54000 w 1447920"/>
              <a:gd name="textAreaRight" fmla="*/ 1393920 w 144792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387" y="1177"/>
                </a:lnTo>
                <a:lnTo>
                  <a:pt x="1177" y="1177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387" y="20423"/>
                </a:lnTo>
                <a:lnTo>
                  <a:pt x="30387" y="1177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177" y="20423"/>
                </a:lnTo>
                <a:lnTo>
                  <a:pt x="30387" y="20423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177" y="1177"/>
                </a:lnTo>
                <a:lnTo>
                  <a:pt x="1177" y="20423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7772400" y="5943600"/>
            <a:ext cx="1295280" cy="838080"/>
            <a:chOff x="7772400" y="5943600"/>
            <a:chExt cx="1295280" cy="838080"/>
          </a:xfrm>
        </p:grpSpPr>
        <p:sp>
          <p:nvSpPr>
            <p:cNvPr id="467" name=""/>
            <p:cNvSpPr/>
            <p:nvPr/>
          </p:nvSpPr>
          <p:spPr>
            <a:xfrm>
              <a:off x="79534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820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106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6392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867880" y="5943600"/>
              <a:ext cx="0" cy="8380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72400" y="609588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72400" y="62769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772400" y="645804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72400" y="6638760"/>
              <a:ext cx="129528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9796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1036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3428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614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688240" y="5975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906040" y="5975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9472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748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23104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582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685360" y="613728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902800" y="613728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2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79472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0748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3104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685360" y="63216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902800" y="63216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3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9472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0748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23104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82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685360" y="650556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902800" y="650556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4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9472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00748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23104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4582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685360" y="6683400"/>
              <a:ext cx="126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902800" y="6683400"/>
              <a:ext cx="1270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808080"/>
                  </a:solidFill>
                  <a:latin typeface="Times New Roman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13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762120" y="4267080"/>
            <a:ext cx="2437920" cy="819000"/>
            <a:chOff x="762120" y="4267080"/>
            <a:chExt cx="2437920" cy="819000"/>
          </a:xfrm>
        </p:grpSpPr>
        <p:sp>
          <p:nvSpPr>
            <p:cNvPr id="511" name=""/>
            <p:cNvSpPr/>
            <p:nvPr/>
          </p:nvSpPr>
          <p:spPr>
            <a:xfrm>
              <a:off x="762120" y="4285440"/>
              <a:ext cx="2437920" cy="800640"/>
            </a:xfrm>
            <a:custGeom>
              <a:avLst/>
              <a:gdLst>
                <a:gd name="textAreaLeft" fmla="*/ 138960 w 2437920"/>
                <a:gd name="textAreaRight" fmla="*/ 2298960 w 2437920"/>
                <a:gd name="textAreaTop" fmla="*/ 138960 h 800640"/>
                <a:gd name="textAreaBottom" fmla="*/ 661680 h 800640"/>
              </a:gdLst>
              <a:ahLst/>
              <a:rect l="textAreaLeft" t="textAreaTop" r="textAreaRight" b="textAreaBottom"/>
              <a:pathLst>
                <a:path w="65751" h="21600">
                  <a:moveTo>
                    <a:pt x="0" y="0"/>
                  </a:moveTo>
                  <a:lnTo>
                    <a:pt x="65751" y="0"/>
                  </a:lnTo>
                  <a:lnTo>
                    <a:pt x="65751" y="21600"/>
                  </a:lnTo>
                  <a:lnTo>
                    <a:pt x="0" y="21600"/>
                  </a:lnTo>
                  <a:close/>
                </a:path>
                <a:path fill="lightenLess" w="65751" h="21600">
                  <a:moveTo>
                    <a:pt x="0" y="0"/>
                  </a:moveTo>
                  <a:lnTo>
                    <a:pt x="65751" y="0"/>
                  </a:lnTo>
                  <a:lnTo>
                    <a:pt x="62002" y="3750"/>
                  </a:lnTo>
                  <a:lnTo>
                    <a:pt x="3750" y="3750"/>
                  </a:lnTo>
                  <a:close/>
                </a:path>
                <a:path fill="darken" w="65751" h="21600">
                  <a:moveTo>
                    <a:pt x="65751" y="0"/>
                  </a:moveTo>
                  <a:lnTo>
                    <a:pt x="65751" y="21600"/>
                  </a:lnTo>
                  <a:lnTo>
                    <a:pt x="62002" y="17850"/>
                  </a:lnTo>
                  <a:lnTo>
                    <a:pt x="62002" y="3750"/>
                  </a:lnTo>
                  <a:close/>
                </a:path>
                <a:path fill="darkenLess" w="65751" h="21600">
                  <a:moveTo>
                    <a:pt x="65751" y="21600"/>
                  </a:moveTo>
                  <a:lnTo>
                    <a:pt x="0" y="21600"/>
                  </a:lnTo>
                  <a:lnTo>
                    <a:pt x="3750" y="17850"/>
                  </a:lnTo>
                  <a:lnTo>
                    <a:pt x="62002" y="17850"/>
                  </a:lnTo>
                  <a:close/>
                </a:path>
                <a:path fill="lighten" w="65751" h="21600">
                  <a:moveTo>
                    <a:pt x="0" y="21600"/>
                  </a:moveTo>
                  <a:lnTo>
                    <a:pt x="0" y="0"/>
                  </a:lnTo>
                  <a:lnTo>
                    <a:pt x="3750" y="3750"/>
                  </a:lnTo>
                  <a:lnTo>
                    <a:pt x="3750" y="1785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7676d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90280" y="4267080"/>
              <a:ext cx="230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7696080" y="5867280"/>
            <a:ext cx="1447920" cy="990720"/>
            <a:chOff x="7696080" y="5867280"/>
            <a:chExt cx="1447920" cy="990720"/>
          </a:xfrm>
        </p:grpSpPr>
        <p:sp>
          <p:nvSpPr>
            <p:cNvPr id="514" name="">
              <a:hlinkClick r:id="rId2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custGeom>
              <a:avLst/>
              <a:gdLst>
                <a:gd name="textAreaLeft" fmla="*/ 54000 w 1447920"/>
                <a:gd name="textAreaRight" fmla="*/ 1393920 w 1447920"/>
                <a:gd name="textAreaTop" fmla="*/ 54000 h 990720"/>
                <a:gd name="textAreaBottom" fmla="*/ 936720 h 990720"/>
              </a:gdLst>
              <a:ahLst/>
              <a:rect l="textAreaLeft" t="textAreaTop" r="textAreaRight" b="textAreaBottom"/>
              <a:pathLst>
                <a:path w="31564" h="21600">
                  <a:moveTo>
                    <a:pt x="0" y="0"/>
                  </a:moveTo>
                  <a:lnTo>
                    <a:pt x="31564" y="0"/>
                  </a:lnTo>
                  <a:lnTo>
                    <a:pt x="31564" y="21600"/>
                  </a:lnTo>
                  <a:lnTo>
                    <a:pt x="0" y="21600"/>
                  </a:lnTo>
                  <a:close/>
                </a:path>
                <a:path fill="lightenLess" w="31564" h="21600">
                  <a:moveTo>
                    <a:pt x="0" y="0"/>
                  </a:moveTo>
                  <a:lnTo>
                    <a:pt x="31564" y="0"/>
                  </a:lnTo>
                  <a:lnTo>
                    <a:pt x="30387" y="1177"/>
                  </a:lnTo>
                  <a:lnTo>
                    <a:pt x="1177" y="1177"/>
                  </a:lnTo>
                  <a:close/>
                </a:path>
                <a:path fill="darken" w="31564" h="21600">
                  <a:moveTo>
                    <a:pt x="31564" y="0"/>
                  </a:moveTo>
                  <a:lnTo>
                    <a:pt x="31564" y="21600"/>
                  </a:lnTo>
                  <a:lnTo>
                    <a:pt x="30387" y="20423"/>
                  </a:lnTo>
                  <a:lnTo>
                    <a:pt x="30387" y="1177"/>
                  </a:lnTo>
                  <a:close/>
                </a:path>
                <a:path fill="darkenLess" w="31564" h="21600">
                  <a:moveTo>
                    <a:pt x="31564" y="21600"/>
                  </a:moveTo>
                  <a:lnTo>
                    <a:pt x="0" y="21600"/>
                  </a:lnTo>
                  <a:lnTo>
                    <a:pt x="1177" y="20423"/>
                  </a:lnTo>
                  <a:lnTo>
                    <a:pt x="30387" y="20423"/>
                  </a:lnTo>
                  <a:close/>
                </a:path>
                <a:path fill="lighten" w="31564" h="21600">
                  <a:moveTo>
                    <a:pt x="0" y="21600"/>
                  </a:moveTo>
                  <a:lnTo>
                    <a:pt x="0" y="0"/>
                  </a:lnTo>
                  <a:lnTo>
                    <a:pt x="1177" y="1177"/>
                  </a:lnTo>
                  <a:lnTo>
                    <a:pt x="1177" y="20423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772400" y="5943600"/>
              <a:ext cx="1295280" cy="838080"/>
              <a:chOff x="7772400" y="5943600"/>
              <a:chExt cx="1295280" cy="838080"/>
            </a:xfrm>
          </p:grpSpPr>
          <p:sp>
            <p:nvSpPr>
              <p:cNvPr id="516" name=""/>
              <p:cNvSpPr/>
              <p:nvPr/>
            </p:nvSpPr>
            <p:spPr>
              <a:xfrm>
                <a:off x="79534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1820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4106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6392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867880" y="5943600"/>
                <a:ext cx="0" cy="8380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772400" y="609588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62769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772400" y="645804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772400" y="6638760"/>
                <a:ext cx="1295280" cy="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79796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01036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23428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4614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688240" y="5975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06040" y="5975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79472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00748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23104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582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685360" y="613728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02800" y="613728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2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79472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00748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23104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4582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85360" y="63216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902800" y="63216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3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79472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0748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23104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4582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685360" y="650556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902800" y="650556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4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79472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0748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23104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4582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685360" y="6683400"/>
                <a:ext cx="1267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902800" y="6683400"/>
                <a:ext cx="1270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808080"/>
                    </a:solidFill>
                    <a:latin typeface="Times New Roman"/>
                  </a:rPr>
                  <a:t>5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>
              <a:hlinkClick r:id="rId3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>
              <a:hlinkClick r:id="rId4" action="ppaction://hlinksldjump"/>
            </p:cNvPr>
            <p:cNvSpPr/>
            <p:nvPr/>
          </p:nvSpPr>
          <p:spPr>
            <a:xfrm>
              <a:off x="7696080" y="5867280"/>
              <a:ext cx="1447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>
            <a:hlinkClick r:id="rId5" action="ppaction://hlinksldjump"/>
          </p:cNvPr>
          <p:cNvSpPr/>
          <p:nvPr/>
        </p:nvSpPr>
        <p:spPr>
          <a:xfrm>
            <a:off x="1523880" y="6553080"/>
            <a:ext cx="609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6" action="ppaction://hlinksldjump"/>
          </p:cNvPr>
          <p:cNvSpPr/>
          <p:nvPr/>
        </p:nvSpPr>
        <p:spPr>
          <a:xfrm>
            <a:off x="762120" y="5105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3938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: What is 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x – 6 = 0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7" action="ppaction://hlinksldjump"/>
          </p:cNvPr>
          <p:cNvSpPr/>
          <p:nvPr/>
        </p:nvSpPr>
        <p:spPr>
          <a:xfrm>
            <a:off x="838080" y="25909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olutions are {2, -3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8" action="ppaction://hlinksldjump"/>
          </p:cNvPr>
          <p:cNvSpPr/>
          <p:nvPr/>
        </p:nvSpPr>
        <p:spPr>
          <a:xfrm>
            <a:off x="838080" y="609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sic Algebra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9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10" action="ppaction://hlinksldjump"/>
          </p:cNvPr>
          <p:cNvSpPr/>
          <p:nvPr/>
        </p:nvSpPr>
        <p:spPr>
          <a:xfrm>
            <a:off x="7696080" y="4800600"/>
            <a:ext cx="1447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11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2" action="ppaction://hlinksldjump"/>
          </p:cNvPr>
          <p:cNvSpPr/>
          <p:nvPr/>
        </p:nvSpPr>
        <p:spPr>
          <a:xfrm>
            <a:off x="7696080" y="5867280"/>
            <a:ext cx="14479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17:56:44Z</dcterms:created>
  <dc:creator>Sigger</dc:creator>
  <dc:description/>
  <dc:language>en-US</dc:language>
  <cp:lastModifiedBy>Leif Erickson</cp:lastModifiedBy>
  <dcterms:modified xsi:type="dcterms:W3CDTF">2011-06-08T03:17:01Z</dcterms:modified>
  <cp:revision>141</cp:revision>
  <dc:subject/>
  <dc:title>Semester 2</dc:title>
</cp:coreProperties>
</file>